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unit in each case?  10, 1/3, x – same thinking (7+3)x = 11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used doubling, then adding, then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shows understanding of equivalence (a=b, c=d, a+c=b+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minute to think, then 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minutes, then 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will use this during ou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1E22-EDB9-4587-BC5E-25913AEB3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587D-D938-4CC3-8BA6-E4110A636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048A-0D20-4AB9-8B3B-77794FF7E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39AD-518E-4530-A5EC-7C58D4C345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B098-7233-4E2D-81D1-AE1D35F33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C009-5D00-47E1-8702-84A9AE364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8EEA-DD7E-429C-9DCC-8EB5A1062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F3C4-6B69-43BC-89A9-0B3821154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E937-A625-4E67-9FA5-C8BE9150E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6236-0932-459D-AD88-F19212CA4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D2A9-3F0C-4A95-A7FB-D66961968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36BA-86DE-4E2B-B12F-2CE9EB49B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6399-B642-4558-9D9A-1FB3306DD6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eaching_History_JERRY_SEINFELD_SNL_.mov" TargetMode="External"/><Relationship Id="rId2" Type="http://schemas.openxmlformats.org/officeDocument/2006/relationships/hyperlink" Target="file:///Teaching_History_JERRY_SEINFELD_SNL_.mov" TargetMode="External"/><Relationship Id="rId3" Type="http://schemas.openxmlformats.org/officeDocument/2006/relationships/hyperlink" Target="file:///Teaching_History_JERRY_SEINFELD_SNL_.mov" TargetMode="External"/><Relationship Id="rId4" Type="http://schemas.openxmlformats.org/officeDocument/2006/relationships/hyperlink" Target="file:///PeerFeedbackMathTalkSmall.wmv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8599-5A0F-45C5-8573-850920C9A1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2b5ca9"/>
                </a:solidFill>
                <a:latin typeface="Arial"/>
              </a:rPr>
              <a:t>Conceptual Understanding Matters. . .</a:t>
            </a:r>
            <a:endParaRPr b="0" lang="en-US" sz="4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52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example, there is a tight integration of number and oper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.          is 2  plus      ; it is also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.      is 3 divided by 5 ; it is also 3 times      ; it h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alue of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943D-BFC0-4AFC-92FB-236C3E9A72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"/>
              <p:cNvSpPr txBox="1"/>
              <p:nvPr/>
            </p:nvSpPr>
            <p:spPr>
              <a:xfrm>
                <a:off x="1911240" y="4038480"/>
                <a:ext cx="222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6985080" y="4038480"/>
                <a:ext cx="222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924200" y="3048120"/>
                <a:ext cx="514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3952800" y="3124080"/>
                <a:ext cx="2383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the unit…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ven “units” plus four “units” gives eleven “uni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2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Grade 7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Grad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70 + 40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+      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7x + 4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3FE5-BEAC-48D4-9151-870AC19BAA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"/>
              <p:cNvSpPr txBox="1"/>
              <p:nvPr/>
            </p:nvSpPr>
            <p:spPr>
              <a:xfrm>
                <a:off x="3581280" y="4159080"/>
                <a:ext cx="3049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4572000" y="4159080"/>
                <a:ext cx="3049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-290520"/>
            <a:ext cx="8229600" cy="18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relationships…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962520" y="5950080"/>
            <a:ext cx="49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ffffff"/>
                </a:solidFill>
                <a:latin typeface="Arial"/>
              </a:rPr>
              <a:t>Extending Children's Mathematics Fractions and Decimal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ffffff"/>
                </a:solidFill>
                <a:latin typeface="Arial"/>
              </a:rPr>
              <a:t>Innovations in Cognitively Guid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ffffff"/>
                </a:solidFill>
                <a:latin typeface="Arial"/>
              </a:rPr>
              <a:t>By Susan B. Empson and Linda Lev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0"/>
          <p:cNvGrpSpPr/>
          <p:nvPr/>
        </p:nvGrpSpPr>
        <p:grpSpPr>
          <a:xfrm>
            <a:off x="457200" y="1057320"/>
            <a:ext cx="7067520" cy="4429080"/>
            <a:chOff x="457200" y="1057320"/>
            <a:chExt cx="7067520" cy="4429080"/>
          </a:xfrm>
        </p:grpSpPr>
        <p:pic>
          <p:nvPicPr>
            <p:cNvPr id="102" name="Picture 2" descr=""/>
            <p:cNvPicPr/>
            <p:nvPr/>
          </p:nvPicPr>
          <p:blipFill>
            <a:blip r:embed="rId1"/>
            <a:stretch/>
          </p:blipFill>
          <p:spPr>
            <a:xfrm>
              <a:off x="2590560" y="1387440"/>
              <a:ext cx="3657600" cy="40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8" descr=""/>
            <p:cNvPicPr/>
            <p:nvPr/>
          </p:nvPicPr>
          <p:blipFill>
            <a:blip r:embed="rId2"/>
            <a:stretch/>
          </p:blipFill>
          <p:spPr>
            <a:xfrm>
              <a:off x="1904760" y="1057320"/>
              <a:ext cx="561996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10"/>
            <p:cNvSpPr/>
            <p:nvPr/>
          </p:nvSpPr>
          <p:spPr>
            <a:xfrm>
              <a:off x="2819160" y="4114800"/>
              <a:ext cx="259092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4" descr=""/>
            <p:cNvPicPr/>
            <p:nvPr/>
          </p:nvPicPr>
          <p:blipFill>
            <a:blip r:embed="rId3"/>
            <a:stretch/>
          </p:blipFill>
          <p:spPr>
            <a:xfrm>
              <a:off x="457200" y="4343400"/>
              <a:ext cx="3200400" cy="75240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Multiplication…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4120" y="18666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“groups of” and repeated ad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.  Multi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0028-B778-49BF-AC12-9C1CE69D98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3174840" y="2895480"/>
                <a:ext cx="96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Cloud Callout 5"/>
          <p:cNvSpPr/>
          <p:nvPr/>
        </p:nvSpPr>
        <p:spPr>
          <a:xfrm>
            <a:off x="5410080" y="2590920"/>
            <a:ext cx="2895840" cy="1676160"/>
          </a:xfrm>
          <a:prstGeom prst="cloudCallout">
            <a:avLst>
              <a:gd name="adj1" fmla="val -85995"/>
              <a:gd name="adj2" fmla="val -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  groups of two and two thi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tributive Intuiti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7AA0-4DA6-4A4A-B175-9752C1BF94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Content Placeholder 4"/>
              <p:cNvSpPr txBox="1"/>
              <p:nvPr/>
            </p:nvSpPr>
            <p:spPr>
              <a:xfrm>
                <a:off x="322200" y="2770200"/>
                <a:ext cx="16639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4" name="Group 4"/>
          <p:cNvGrpSpPr/>
          <p:nvPr/>
        </p:nvGrpSpPr>
        <p:grpSpPr>
          <a:xfrm>
            <a:off x="4267080" y="2222640"/>
            <a:ext cx="4361040" cy="1981080"/>
            <a:chOff x="4267080" y="2222640"/>
            <a:chExt cx="4361040" cy="1981080"/>
          </a:xfrm>
        </p:grpSpPr>
        <p:sp>
          <p:nvSpPr>
            <p:cNvPr id="115" name="Rectangle 20"/>
            <p:cNvSpPr/>
            <p:nvPr/>
          </p:nvSpPr>
          <p:spPr>
            <a:xfrm>
              <a:off x="5721120" y="2957400"/>
              <a:ext cx="1447920" cy="228600"/>
            </a:xfrm>
            <a:prstGeom prst="rect">
              <a:avLst/>
            </a:prstGeom>
            <a:solidFill>
              <a:srgbClr val="4597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3"/>
            <p:cNvGrpSpPr/>
            <p:nvPr/>
          </p:nvGrpSpPr>
          <p:grpSpPr>
            <a:xfrm>
              <a:off x="4267080" y="2222640"/>
              <a:ext cx="4361040" cy="1981080"/>
              <a:chOff x="4267080" y="2222640"/>
              <a:chExt cx="4361040" cy="1981080"/>
            </a:xfrm>
          </p:grpSpPr>
          <p:sp>
            <p:nvSpPr>
              <p:cNvPr id="117" name="Rectangle 8"/>
              <p:cNvSpPr/>
              <p:nvPr/>
            </p:nvSpPr>
            <p:spPr>
              <a:xfrm>
                <a:off x="4267080" y="222264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5717880" y="222264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7166160" y="222444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8148960" y="222408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4"/>
              <p:cNvSpPr/>
              <p:nvPr/>
            </p:nvSpPr>
            <p:spPr>
              <a:xfrm>
                <a:off x="4268520" y="260352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5"/>
              <p:cNvSpPr/>
              <p:nvPr/>
            </p:nvSpPr>
            <p:spPr>
              <a:xfrm>
                <a:off x="5719680" y="260352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6"/>
              <p:cNvSpPr/>
              <p:nvPr/>
            </p:nvSpPr>
            <p:spPr>
              <a:xfrm>
                <a:off x="7167960" y="260532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7"/>
              <p:cNvSpPr/>
              <p:nvPr/>
            </p:nvSpPr>
            <p:spPr>
              <a:xfrm>
                <a:off x="8150400" y="260496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9"/>
              <p:cNvSpPr/>
              <p:nvPr/>
            </p:nvSpPr>
            <p:spPr>
              <a:xfrm>
                <a:off x="4275000" y="2954520"/>
                <a:ext cx="14461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1"/>
              <p:cNvSpPr/>
              <p:nvPr/>
            </p:nvSpPr>
            <p:spPr>
              <a:xfrm>
                <a:off x="7173360" y="295560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2"/>
              <p:cNvSpPr/>
              <p:nvPr/>
            </p:nvSpPr>
            <p:spPr>
              <a:xfrm>
                <a:off x="8156880" y="2955960"/>
                <a:ext cx="455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>
                <a:off x="4275000" y="3289320"/>
                <a:ext cx="14461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"/>
              <p:cNvSpPr/>
              <p:nvPr/>
            </p:nvSpPr>
            <p:spPr>
              <a:xfrm>
                <a:off x="5726160" y="328932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6"/>
              <p:cNvSpPr/>
              <p:nvPr/>
            </p:nvSpPr>
            <p:spPr>
              <a:xfrm>
                <a:off x="7173360" y="329112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>
                <a:off x="8156880" y="3291120"/>
                <a:ext cx="455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4267080" y="366876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5717880" y="366876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7166160" y="367056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8148960" y="367056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281120" y="397368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5732280" y="397368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7180560" y="397548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8163000" y="397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Cloud Callout 43"/>
          <p:cNvSpPr/>
          <p:nvPr/>
        </p:nvSpPr>
        <p:spPr>
          <a:xfrm>
            <a:off x="2895480" y="4876920"/>
            <a:ext cx="2286000" cy="1447560"/>
          </a:xfrm>
          <a:prstGeom prst="cloudCallout">
            <a:avLst>
              <a:gd name="adj1" fmla="val 38236"/>
              <a:gd name="adj2" fmla="val -83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groups of  2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loud Callout 44"/>
          <p:cNvSpPr/>
          <p:nvPr/>
        </p:nvSpPr>
        <p:spPr>
          <a:xfrm>
            <a:off x="6242040" y="4724280"/>
            <a:ext cx="2386080" cy="1219320"/>
          </a:xfrm>
          <a:prstGeom prst="cloudCallout">
            <a:avLst>
              <a:gd name="adj1" fmla="val 8379"/>
              <a:gd name="adj2" fmla="val -112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groups of  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7"/>
          <p:cNvGrpSpPr/>
          <p:nvPr/>
        </p:nvGrpSpPr>
        <p:grpSpPr>
          <a:xfrm>
            <a:off x="3886200" y="1973160"/>
            <a:ext cx="3394080" cy="2594160"/>
            <a:chOff x="3886200" y="1973160"/>
            <a:chExt cx="3394080" cy="2594160"/>
          </a:xfrm>
        </p:grpSpPr>
        <p:sp>
          <p:nvSpPr>
            <p:cNvPr id="143" name="Oval 45"/>
            <p:cNvSpPr/>
            <p:nvPr/>
          </p:nvSpPr>
          <p:spPr>
            <a:xfrm>
              <a:off x="3886200" y="1973160"/>
              <a:ext cx="3394080" cy="25941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46"/>
            <p:cNvSpPr/>
            <p:nvPr/>
          </p:nvSpPr>
          <p:spPr>
            <a:xfrm>
              <a:off x="5045400" y="2517840"/>
              <a:ext cx="1424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51"/>
          <p:cNvGrpSpPr/>
          <p:nvPr/>
        </p:nvGrpSpPr>
        <p:grpSpPr>
          <a:xfrm>
            <a:off x="7124760" y="2100240"/>
            <a:ext cx="1386000" cy="2259000"/>
            <a:chOff x="7124760" y="2100240"/>
            <a:chExt cx="1386000" cy="2259000"/>
          </a:xfrm>
        </p:grpSpPr>
        <p:sp>
          <p:nvSpPr>
            <p:cNvPr id="146" name="Oval 49"/>
            <p:cNvSpPr/>
            <p:nvPr/>
          </p:nvSpPr>
          <p:spPr>
            <a:xfrm>
              <a:off x="7124760" y="2100240"/>
              <a:ext cx="1219320" cy="22590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50"/>
            <p:cNvSpPr/>
            <p:nvPr/>
          </p:nvSpPr>
          <p:spPr>
            <a:xfrm>
              <a:off x="7291440" y="252612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"/>
          <p:cNvGrpSpPr/>
          <p:nvPr/>
        </p:nvGrpSpPr>
        <p:grpSpPr>
          <a:xfrm>
            <a:off x="193680" y="1262160"/>
            <a:ext cx="4911840" cy="1030320"/>
            <a:chOff x="193680" y="1262160"/>
            <a:chExt cx="4911840" cy="1030320"/>
          </a:xfrm>
        </p:grpSpPr>
        <p:sp>
          <p:nvSpPr>
            <p:cNvPr id="149" name="Cloud Callout 50"/>
            <p:cNvSpPr/>
            <p:nvPr/>
          </p:nvSpPr>
          <p:spPr>
            <a:xfrm>
              <a:off x="193680" y="1262160"/>
              <a:ext cx="4911840" cy="1030320"/>
            </a:xfrm>
            <a:prstGeom prst="cloudCallout">
              <a:avLst>
                <a:gd name="adj1" fmla="val -13935"/>
                <a:gd name="adj2" fmla="val 9993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8"/>
            <p:cNvSpPr/>
            <p:nvPr/>
          </p:nvSpPr>
          <p:spPr>
            <a:xfrm>
              <a:off x="474480" y="1662120"/>
              <a:ext cx="1447920" cy="230040"/>
            </a:xfrm>
            <a:prstGeom prst="rect">
              <a:avLst/>
            </a:prstGeom>
            <a:solidFill>
              <a:srgbClr val="4597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9"/>
            <p:cNvSpPr/>
            <p:nvPr/>
          </p:nvSpPr>
          <p:spPr>
            <a:xfrm>
              <a:off x="1925640" y="1662120"/>
              <a:ext cx="1447920" cy="230040"/>
            </a:xfrm>
            <a:prstGeom prst="rect">
              <a:avLst/>
            </a:prstGeom>
            <a:solidFill>
              <a:srgbClr val="4597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0"/>
            <p:cNvSpPr/>
            <p:nvPr/>
          </p:nvSpPr>
          <p:spPr>
            <a:xfrm>
              <a:off x="3373560" y="1664640"/>
              <a:ext cx="1447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4370760" y="1665360"/>
              <a:ext cx="457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2209680" y="3289320"/>
                <a:ext cx="1163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troduction to Area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om Count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s /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easur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mensions /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5FE8-3EF3-4F9A-9E8D-204591454C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481120" cy="2038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5529240" y="3809880"/>
            <a:ext cx="2090880" cy="1578240"/>
          </a:xfrm>
          <a:prstGeom prst="rect">
            <a:avLst/>
          </a:prstGeom>
          <a:ln w="0">
            <a:noFill/>
          </a:ln>
        </p:spPr>
      </p:pic>
      <p:sp>
        <p:nvSpPr>
          <p:cNvPr id="160" name="Cloud Callout 7"/>
          <p:cNvSpPr/>
          <p:nvPr/>
        </p:nvSpPr>
        <p:spPr>
          <a:xfrm>
            <a:off x="1600200" y="2751120"/>
            <a:ext cx="3243240" cy="811080"/>
          </a:xfrm>
          <a:prstGeom prst="cloudCallout">
            <a:avLst>
              <a:gd name="adj1" fmla="val 62888"/>
              <a:gd name="adj2" fmla="val -55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+ 4 + 4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loud Callout 11"/>
          <p:cNvSpPr/>
          <p:nvPr/>
        </p:nvSpPr>
        <p:spPr>
          <a:xfrm>
            <a:off x="1981080" y="4983120"/>
            <a:ext cx="3243240" cy="811080"/>
          </a:xfrm>
          <a:prstGeom prst="cloudCallout">
            <a:avLst>
              <a:gd name="adj1" fmla="val 62888"/>
              <a:gd name="adj2" fmla="val -55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 x 4 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: 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understand how work with fractions supports relational thinking and algebraic reaso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the area model to represent part to whole relationships and fraction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practice interpretive listening and questioning as students and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3927-BAB6-4C79-AB4B-DBEACBEF3A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hoose your Teacher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ick one person from your group to act as the “teacher” for the learning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will leave for a few minutes to “prep” the learning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51E4-ACFD-45CE-A8E0-4F686BF0A9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Stems for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et of question “stems” that you will use during the learning activity to promote interpretive listening and questi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stems on a tent card at you table for quick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68E3-47BE-4F1F-91FA-D409AEA48F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 through the questions as a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Listening and Questioning to understand and build on each other’s thin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udents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stening / questioning to lea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eachers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stening/questioning to understand and push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rd your thinking on chart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44F6-35A7-4DEA-A1B3-9C8C613D2F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, practice,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and question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 of teachers and students in a learning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nection between number sense, fractions and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area model supports math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E54C-FEBD-4AA2-9528-6B2FCDC7C3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resent 144 using the base 10 blocks.  Show several different arrangements.  Write equivalent expressions that reflect these arrang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w suppose the big square represents 1.  What do your arrangements illustr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w suppose the big square represents x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 What do your arrangements re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C4C4-AB23-4D3C-95A8-38C8B280DD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560" y="121896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eachers: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notice about listening / questioning while you were playing the role of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Students: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as your experience with listening / questioning while you were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oth: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 have any Lingering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CC91-23C9-428A-8143-614A35999A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E3F2-08AF-4FDE-B8FB-8A995534A0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lassroom Vignett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C372-8758-419E-B502-D9556B9887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rry 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ienfeld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teaches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Grade 8 : The Pythagorean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do you Notice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key differences between the two “classes”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the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11C4-5BC1-4143-8C92-122D944E3F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 Talk Learning Community Research Synopsi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1640" y="1981080"/>
            <a:ext cx="426708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son A – top half of p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son B – bottom half of p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son C – p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son D – p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son E – your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FE45-336A-4B8D-A60B-A58681D9C2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533520" y="1917720"/>
            <a:ext cx="373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ad your part of the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the highlights with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terpretive Listening and Questi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Frayer Model for interpretive listening and question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8B91-0347-44D6-901B-09EC9A78BD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Canvas 1"/>
          <p:cNvGrpSpPr/>
          <p:nvPr/>
        </p:nvGrpSpPr>
        <p:grpSpPr>
          <a:xfrm>
            <a:off x="2514600" y="2819520"/>
            <a:ext cx="5486400" cy="3200400"/>
            <a:chOff x="2514600" y="2819520"/>
            <a:chExt cx="5486400" cy="3200400"/>
          </a:xfrm>
        </p:grpSpPr>
        <p:sp>
          <p:nvSpPr>
            <p:cNvPr id="70" name="Rectangle 16"/>
            <p:cNvSpPr/>
            <p:nvPr/>
          </p:nvSpPr>
          <p:spPr>
            <a:xfrm>
              <a:off x="2514600" y="2819520"/>
              <a:ext cx="54864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7"/>
            <p:cNvSpPr/>
            <p:nvPr/>
          </p:nvSpPr>
          <p:spPr>
            <a:xfrm>
              <a:off x="2800080" y="3076560"/>
              <a:ext cx="5124600" cy="2876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traight Connector 18"/>
            <p:cNvSpPr/>
            <p:nvPr/>
          </p:nvSpPr>
          <p:spPr>
            <a:xfrm>
              <a:off x="5362560" y="3076560"/>
              <a:ext cx="0" cy="2876760"/>
            </a:xfrm>
            <a:prstGeom prst="line">
              <a:avLst/>
            </a:prstGeom>
            <a:ln w="255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19"/>
            <p:cNvSpPr/>
            <p:nvPr/>
          </p:nvSpPr>
          <p:spPr>
            <a:xfrm>
              <a:off x="2800080" y="4515120"/>
              <a:ext cx="5124600" cy="0"/>
            </a:xfrm>
            <a:prstGeom prst="line">
              <a:avLst/>
            </a:prstGeom>
            <a:ln w="255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0"/>
            <p:cNvSpPr/>
            <p:nvPr/>
          </p:nvSpPr>
          <p:spPr>
            <a:xfrm>
              <a:off x="4572000" y="4029120"/>
              <a:ext cx="1600200" cy="981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4724280" y="421020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nterpretive Listening and Questio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6"/>
            <p:cNvSpPr/>
            <p:nvPr/>
          </p:nvSpPr>
          <p:spPr>
            <a:xfrm>
              <a:off x="2800080" y="307656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6"/>
            <p:cNvSpPr/>
            <p:nvPr/>
          </p:nvSpPr>
          <p:spPr>
            <a:xfrm>
              <a:off x="6694560" y="307656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Character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6"/>
            <p:cNvSpPr/>
            <p:nvPr/>
          </p:nvSpPr>
          <p:spPr>
            <a:xfrm>
              <a:off x="2800080" y="451512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6"/>
            <p:cNvSpPr/>
            <p:nvPr/>
          </p:nvSpPr>
          <p:spPr>
            <a:xfrm>
              <a:off x="6534360" y="4515120"/>
              <a:ext cx="13906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: 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understand how work with fractions supports relational thinking and algebraic reaso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the area model to represent part to whole relationships and fraction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practice interpretive listening and questioning as students and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FAE7-93D2-4B9B-94E7-336BC1B427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2b5ca9"/>
                </a:solidFill>
                <a:latin typeface="Arial"/>
              </a:rPr>
              <a:t>Conceptual Understanding Matters. . .</a:t>
            </a:r>
            <a:endParaRPr b="0" lang="en-US" sz="4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676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 offer students the opportunity to grapple with fundamental mathematical relationships that constitute the core of Algebra.”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768F-78EB-48A7-BB01-5FB5ACBF9B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3429000" y="3741840"/>
            <a:ext cx="49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Extending Children's Mathematics Fractions and Decimal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Innovations in Cognitively Guid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By Susan B. Empson and Linda Lev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8-21T18:00:53Z</dcterms:modified>
  <cp:revision>65</cp:revision>
  <dc:subject/>
  <dc:title>&lt;Title&gt;</dc:title>
</cp:coreProperties>
</file>